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64803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2400" y="3896280"/>
            <a:ext cx="64803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240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0304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473720" y="201564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65040" y="201564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2400" y="389628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473720" y="389628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65040" y="389628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2400" y="2015640"/>
            <a:ext cx="6480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6480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2400" y="417240"/>
            <a:ext cx="648036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240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2400" y="2015640"/>
            <a:ext cx="6480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0304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0" y="3896280"/>
            <a:ext cx="64803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64803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2400" y="3896280"/>
            <a:ext cx="64803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240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0304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73720" y="201564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65040" y="201564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2400" y="389628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73720" y="389628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65040" y="389628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282400" y="2015640"/>
            <a:ext cx="6480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6480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6480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282400" y="417240"/>
            <a:ext cx="648036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240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0304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282400" y="3896280"/>
            <a:ext cx="64803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64803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282400" y="3896280"/>
            <a:ext cx="64803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28240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0304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73720" y="201564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65040" y="201564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282400" y="389628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473720" y="389628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665040" y="3896280"/>
            <a:ext cx="20865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2400" y="417240"/>
            <a:ext cx="648036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240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03040" y="389628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03040" y="2015640"/>
            <a:ext cx="316224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0" y="3896280"/>
            <a:ext cx="6480360" cy="17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228600" cy="6862680"/>
          </a:xfrm>
          <a:prstGeom prst="rect">
            <a:avLst/>
          </a:prstGeom>
          <a:solidFill>
            <a:srgbClr val="07d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8"/>
          <p:cNvSpPr/>
          <p:nvPr/>
        </p:nvSpPr>
        <p:spPr>
          <a:xfrm>
            <a:off x="2286000" y="228600"/>
            <a:ext cx="6477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11"/>
          <p:cNvSpPr/>
          <p:nvPr/>
        </p:nvSpPr>
        <p:spPr>
          <a:xfrm>
            <a:off x="2286000" y="6629400"/>
            <a:ext cx="6477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Straight Connector 13"/>
          <p:cNvSpPr/>
          <p:nvPr/>
        </p:nvSpPr>
        <p:spPr>
          <a:xfrm>
            <a:off x="406440" y="2286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8915400" y="0"/>
            <a:ext cx="228600" cy="6862680"/>
          </a:xfrm>
          <a:prstGeom prst="rect">
            <a:avLst/>
          </a:prstGeom>
          <a:solidFill>
            <a:srgbClr val="07d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282400" y="2015640"/>
            <a:ext cx="6480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1"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3" marL="466560" indent="-215640">
              <a:lnSpc>
                <a:spcPct val="90000"/>
              </a:lnSpc>
              <a:spcBef>
                <a:spcPts val="1199"/>
              </a:spcBef>
              <a:buClr>
                <a:srgbClr val="07ded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4" marL="466560" indent="1362240">
              <a:lnSpc>
                <a:spcPct val="90000"/>
              </a:lnSpc>
              <a:spcBef>
                <a:spcPts val="1199"/>
              </a:spcBef>
              <a:buClr>
                <a:srgbClr val="07dedb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5" marL="466560" indent="1362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6" marL="466560" indent="1362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7" name="Straight Connector 17"/>
          <p:cNvSpPr/>
          <p:nvPr/>
        </p:nvSpPr>
        <p:spPr>
          <a:xfrm>
            <a:off x="406440" y="66294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ZoneTexte 13"/>
          <p:cNvSpPr/>
          <p:nvPr/>
        </p:nvSpPr>
        <p:spPr>
          <a:xfrm>
            <a:off x="406440" y="6338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3ABE5-95F8-4CF6-8667-BECD914741E7}" type="slidenum">
              <a:rPr b="1" lang="fr-FR" sz="1400" spc="-1" strike="noStrike">
                <a:solidFill>
                  <a:srgbClr val="07ded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406080" y="6689520"/>
            <a:ext cx="167652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imes New Roman"/>
              </a:rPr>
              <a:t>© All Rights Reserved: UNESCO/ I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4" descr=""/>
          <p:cNvPicPr/>
          <p:nvPr/>
        </p:nvPicPr>
        <p:blipFill>
          <a:blip r:embed="rId2"/>
          <a:stretch/>
        </p:blipFill>
        <p:spPr>
          <a:xfrm>
            <a:off x="569880" y="399960"/>
            <a:ext cx="123984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6477120" cy="6862680"/>
          </a:xfrm>
          <a:prstGeom prst="rect">
            <a:avLst/>
          </a:prstGeom>
          <a:solidFill>
            <a:srgbClr val="07d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380880" y="1371600"/>
            <a:ext cx="5715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"/>
          <p:cNvPicPr/>
          <p:nvPr/>
        </p:nvPicPr>
        <p:blipFill>
          <a:blip r:embed="rId2"/>
          <a:stretch/>
        </p:blipFill>
        <p:spPr>
          <a:xfrm>
            <a:off x="355680" y="190440"/>
            <a:ext cx="1925640" cy="1182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282400" y="2015640"/>
            <a:ext cx="6480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1"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3" marL="466560" indent="-215640">
              <a:lnSpc>
                <a:spcPct val="90000"/>
              </a:lnSpc>
              <a:spcBef>
                <a:spcPts val="1199"/>
              </a:spcBef>
              <a:buClr>
                <a:srgbClr val="07ded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4" marL="466560" indent="1362240">
              <a:lnSpc>
                <a:spcPct val="90000"/>
              </a:lnSpc>
              <a:spcBef>
                <a:spcPts val="1199"/>
              </a:spcBef>
              <a:buClr>
                <a:srgbClr val="07dedb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5" marL="466560" indent="1362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6" marL="466560" indent="1362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5"/>
          <p:cNvSpPr/>
          <p:nvPr/>
        </p:nvSpPr>
        <p:spPr>
          <a:xfrm>
            <a:off x="0" y="0"/>
            <a:ext cx="228600" cy="6862680"/>
          </a:xfrm>
          <a:prstGeom prst="rect">
            <a:avLst/>
          </a:prstGeom>
          <a:solidFill>
            <a:srgbClr val="07d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2286000" y="228600"/>
            <a:ext cx="6477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2286000" y="6629400"/>
            <a:ext cx="6477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13"/>
          <p:cNvSpPr/>
          <p:nvPr/>
        </p:nvSpPr>
        <p:spPr>
          <a:xfrm>
            <a:off x="406440" y="2286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0"/>
          <p:cNvSpPr/>
          <p:nvPr/>
        </p:nvSpPr>
        <p:spPr>
          <a:xfrm>
            <a:off x="8915400" y="0"/>
            <a:ext cx="228600" cy="6862680"/>
          </a:xfrm>
          <a:prstGeom prst="rect">
            <a:avLst/>
          </a:prstGeom>
          <a:solidFill>
            <a:srgbClr val="07d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17"/>
          <p:cNvSpPr/>
          <p:nvPr/>
        </p:nvSpPr>
        <p:spPr>
          <a:xfrm>
            <a:off x="406440" y="66294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13"/>
          <p:cNvSpPr/>
          <p:nvPr/>
        </p:nvSpPr>
        <p:spPr>
          <a:xfrm>
            <a:off x="406440" y="6338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9FA20-A86A-4A85-A0D3-B7DA05ECE664}" type="slidenum">
              <a:rPr b="1" lang="fr-FR" sz="1400" spc="-1" strike="noStrike">
                <a:solidFill>
                  <a:srgbClr val="07ded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4" descr=""/>
          <p:cNvPicPr/>
          <p:nvPr/>
        </p:nvPicPr>
        <p:blipFill>
          <a:blip r:embed="rId2"/>
          <a:stretch/>
        </p:blipFill>
        <p:spPr>
          <a:xfrm>
            <a:off x="569880" y="399960"/>
            <a:ext cx="123984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Straight Connector 8"/>
          <p:cNvSpPr/>
          <p:nvPr/>
        </p:nvSpPr>
        <p:spPr>
          <a:xfrm>
            <a:off x="2286000" y="228600"/>
            <a:ext cx="6477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13"/>
          <p:cNvSpPr/>
          <p:nvPr/>
        </p:nvSpPr>
        <p:spPr>
          <a:xfrm>
            <a:off x="406440" y="2286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0" y="417240"/>
            <a:ext cx="64803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2282400" y="2015640"/>
            <a:ext cx="6480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1"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3" marL="466560" indent="-215640">
              <a:lnSpc>
                <a:spcPct val="90000"/>
              </a:lnSpc>
              <a:spcBef>
                <a:spcPts val="1199"/>
              </a:spcBef>
              <a:buClr>
                <a:srgbClr val="07ded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4" marL="466560" indent="1362240">
              <a:lnSpc>
                <a:spcPct val="90000"/>
              </a:lnSpc>
              <a:spcBef>
                <a:spcPts val="1199"/>
              </a:spcBef>
              <a:buClr>
                <a:srgbClr val="07dedb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5" marL="466560" indent="1362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  <a:p>
            <a:pPr lvl="6" marL="466560" indent="1362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7dedb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2"/>
          </p:nvPr>
        </p:nvSpPr>
        <p:spPr>
          <a:xfrm>
            <a:off x="406080" y="6689520"/>
            <a:ext cx="167652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imes New Roman"/>
              </a:rPr>
              <a:t>© All Rights Reserved: UNESCO/ I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1692360"/>
            <a:ext cx="5715000" cy="28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КН и устойчивое развитие</a:t>
            </a:r>
            <a:br>
              <a:rPr sz="40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резентация</a:t>
            </a: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br>
              <a:rPr sz="1800"/>
            </a:br>
            <a:br>
              <a:rPr sz="4000"/>
            </a:b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80520" y="4554000"/>
            <a:ext cx="5715000" cy="10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ЮНЕСК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7dedb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кция нематериального культурного наследия</a:t>
            </a:r>
            <a:endParaRPr b="1" lang="en-US" sz="2000" spc="-1" strike="noStrike">
              <a:solidFill>
                <a:srgbClr val="07dedb"/>
              </a:solidFill>
              <a:latin typeface="Arial"/>
            </a:endParaRPr>
          </a:p>
        </p:txBody>
      </p:sp>
      <p:pic>
        <p:nvPicPr>
          <p:cNvPr id="139" name="Espace réservé pour une image  8" descr="danseuse.jpg"/>
          <p:cNvPicPr/>
          <p:nvPr/>
        </p:nvPicPr>
        <p:blipFill>
          <a:blip r:embed="rId1"/>
          <a:srcRect l="0" t="34" r="0" b="34"/>
          <a:stretch/>
        </p:blipFill>
        <p:spPr>
          <a:xfrm>
            <a:off x="647856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380880" y="5967360"/>
            <a:ext cx="1598760" cy="2761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80880" y="6243480"/>
            <a:ext cx="1598760" cy="277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contenu 4"/>
          <p:cNvSpPr/>
          <p:nvPr/>
        </p:nvSpPr>
        <p:spPr>
          <a:xfrm>
            <a:off x="5159520" y="6000120"/>
            <a:ext cx="287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Слева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 Daoju Zheng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Справа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 Difa Gong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Все п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ава защищены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ЮНЕСК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731880" y="3770280"/>
            <a:ext cx="3108240" cy="2098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5159520" y="3798720"/>
            <a:ext cx="3127320" cy="20401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1"/>
          <p:cNvSpPr/>
          <p:nvPr/>
        </p:nvSpPr>
        <p:spPr>
          <a:xfrm>
            <a:off x="2286000" y="280656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терам-строите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, работающим на китайских деревянных арочных мостах, платят за их работу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21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лата за изделия и передачу знаний</a:t>
            </a:r>
            <a:r>
              <a:rPr b="1" lang="en-ZA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оительство деревянных мостов в Кита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0" y="374760"/>
            <a:ext cx="657216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лата за изделия как поддержка НКН</a:t>
            </a:r>
            <a:r>
              <a:rPr b="1" lang="en-ZA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готовление кружев</a:t>
            </a:r>
            <a:r>
              <a:rPr b="1" lang="en-Z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Хорват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space réservé du contenu 4"/>
          <p:cNvSpPr/>
          <p:nvPr/>
        </p:nvSpPr>
        <p:spPr>
          <a:xfrm>
            <a:off x="406440" y="5741640"/>
            <a:ext cx="287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Изготовление кружев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 Ministry of Culture of Croatia,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contenu 2"/>
          <p:cNvSpPr/>
          <p:nvPr/>
        </p:nvSpPr>
        <p:spPr>
          <a:xfrm>
            <a:off x="5346720" y="2768760"/>
            <a:ext cx="34164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ватское кружева длительное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мя изготавливались и продавались сельскими женщинами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Все права защищены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ЮНЕСК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406440" y="2736720"/>
            <a:ext cx="46800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16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цессия по поводу обрезания (г.Бандунг, Индонезия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contenu 4"/>
          <p:cNvSpPr/>
          <p:nvPr/>
        </p:nvSpPr>
        <p:spPr>
          <a:xfrm>
            <a:off x="406440" y="2577600"/>
            <a:ext cx="16765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Мальчик, переодетый «королём на один день», вер</a:t>
            </a:r>
            <a:r>
              <a:rPr b="0" i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ом на лошади во время процессии перед </a:t>
            </a:r>
            <a:r>
              <a:rPr b="0" i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воим обрезание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 Wim van Zanten, 19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Все права защищены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ЮНЕСК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286000" y="2573280"/>
            <a:ext cx="591804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16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цессия по поводу обрезани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в г.Бандунг: танцор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contenu 4"/>
          <p:cNvSpPr/>
          <p:nvPr/>
        </p:nvSpPr>
        <p:spPr>
          <a:xfrm>
            <a:off x="406440" y="2261520"/>
            <a:ext cx="16765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Процессия по поводу обрезания в г.Бандунг: танцоры, использующие палки с л</a:t>
            </a:r>
            <a:r>
              <a:rPr b="0" i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шадиной головой и лошадиные маск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 Wim van Zanten, 19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Все права защищены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ЮНЕСК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2286000" y="2260440"/>
            <a:ext cx="572760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16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цессия по поводу обрезания в г. Бандунг: музыкант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ce réservé du contenu 4"/>
          <p:cNvSpPr/>
          <p:nvPr/>
        </p:nvSpPr>
        <p:spPr>
          <a:xfrm>
            <a:off x="406440" y="1907640"/>
            <a:ext cx="1676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800" spc="-1" strike="noStrike">
                <a:solidFill>
                  <a:srgbClr val="00d213"/>
                </a:solidFill>
                <a:latin typeface="Arial"/>
                <a:ea typeface="Arial"/>
              </a:rPr>
              <a:t>Музыканты играют на </a:t>
            </a:r>
            <a:r>
              <a:rPr b="0" i="1" lang="en-ZA" sz="800" spc="-1" strike="noStrike">
                <a:solidFill>
                  <a:srgbClr val="00d213"/>
                </a:solidFill>
                <a:latin typeface="Arial"/>
                <a:ea typeface="Arial"/>
              </a:rPr>
              <a:t>Musicians playing the shawm and drums in the Bandung circumcision procession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 Wim van Zanten, 19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Все права защищены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ЮНЕСК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281320" y="2397240"/>
            <a:ext cx="58546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вые возможности по получению доход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Все права защищены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ЮНЕСК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Placeholder 8"/>
          <p:cNvSpPr/>
          <p:nvPr/>
        </p:nvSpPr>
        <p:spPr>
          <a:xfrm>
            <a:off x="406440" y="1905120"/>
            <a:ext cx="4051440" cy="40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70280" indent="-170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р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традиционных знаний для устойчивого управления ресурсами окружающей среды с  целью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лучения при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традиционных знаний для новых ц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грация практ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и продукции традиционного целительства в систему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Placeholder 8"/>
          <p:cNvSpPr/>
          <p:nvPr/>
        </p:nvSpPr>
        <p:spPr>
          <a:xfrm>
            <a:off x="4552920" y="1905120"/>
            <a:ext cx="4202280" cy="40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 indent="-179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ажа ремесленных издели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ение НКН за пл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стивал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рев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нсорская поддержка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иск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Все права защищены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ЮНЕСК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Placeholder 8"/>
          <p:cNvSpPr/>
          <p:nvPr/>
        </p:nvSpPr>
        <p:spPr>
          <a:xfrm>
            <a:off x="2278080" y="1905120"/>
            <a:ext cx="647712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 indent="-179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орозка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дальнейшего развития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ья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2.1; 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1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резмерная эксплуатация природных ресурсов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ья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2.1; 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1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еря функции и смысла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(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1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контекстуализация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102 (a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ажение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102 (b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конное присвоение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1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праведливое распределение дохо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1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Все права защищены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ЮНЕСК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D:\BSU\перевод ЮНЕСКО 2015-1\Unit8 slide17.jpg"/>
          <p:cNvPicPr/>
          <p:nvPr/>
        </p:nvPicPr>
        <p:blipFill>
          <a:blip r:embed="rId1"/>
          <a:stretch/>
        </p:blipFill>
        <p:spPr>
          <a:xfrm>
            <a:off x="2050920" y="393840"/>
            <a:ext cx="504216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Все права защищены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ЮНЕСК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D:\BSU\перевод ЮНЕСКО 2015-1\Unit 8 slaide18.jpg"/>
          <p:cNvPicPr/>
          <p:nvPr/>
        </p:nvPicPr>
        <p:blipFill>
          <a:blip r:embed="rId1"/>
          <a:stretch/>
        </p:blipFill>
        <p:spPr>
          <a:xfrm>
            <a:off x="2050920" y="387360"/>
            <a:ext cx="50421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Все права защищены: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ЮНЕСК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D:\BSU\перевод ЮНЕСКО 2015-1\Unit 8 slide19.jpg"/>
          <p:cNvPicPr/>
          <p:nvPr/>
        </p:nvPicPr>
        <p:blipFill>
          <a:blip r:embed="rId1"/>
          <a:stretch/>
        </p:blipFill>
        <p:spPr>
          <a:xfrm>
            <a:off x="2050920" y="387360"/>
            <a:ext cx="50421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этой презентации </a:t>
            </a:r>
            <a:r>
              <a:rPr b="1" lang="en-ZA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0" y="1905120"/>
            <a:ext cx="6480360" cy="42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говорится в Конвенции и ОР</a:t>
            </a:r>
            <a:endParaRPr b="1" lang="en-US" sz="2000" spc="-1" strike="noStrike">
              <a:solidFill>
                <a:srgbClr val="07ded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ойчивое НКН</a:t>
            </a:r>
            <a:endParaRPr b="1" lang="en-US" sz="2000" spc="-1" strike="noStrike">
              <a:solidFill>
                <a:srgbClr val="07ded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КН поддерживает развитие</a:t>
            </a:r>
            <a:endParaRPr b="1" lang="en-US" sz="2000" spc="-1" strike="noStrike">
              <a:solidFill>
                <a:srgbClr val="07ded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КН поддерживает сообщества</a:t>
            </a:r>
            <a:endParaRPr b="1" lang="en-US" sz="2000" spc="-1" strike="noStrike">
              <a:solidFill>
                <a:srgbClr val="07ded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ьшение рисков</a:t>
            </a:r>
            <a:endParaRPr b="1" lang="en-US" sz="2000" spc="-1" strike="noStrike">
              <a:solidFill>
                <a:srgbClr val="07ded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ded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ded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ded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dedb"/>
              </a:solidFill>
              <a:latin typeface="Arial"/>
            </a:endParaRPr>
          </a:p>
        </p:txBody>
      </p:sp>
      <p:sp>
        <p:nvSpPr>
          <p:cNvPr id="144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Все права защищены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ЮНЕСК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нимизация рисков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агодаря</a:t>
            </a:r>
            <a:r>
              <a:rPr b="1" lang="en-ZA" sz="36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Все права защищены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ЮНЕСК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Placeholder 8"/>
          <p:cNvSpPr/>
          <p:nvPr/>
        </p:nvSpPr>
        <p:spPr>
          <a:xfrm>
            <a:off x="2286000" y="1893960"/>
            <a:ext cx="6477120" cy="40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 indent="-179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ю и согласию сообществ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ья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ю осведомлённости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8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тивным механизмам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(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ю, мониторингу и оценке рисков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  (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105(c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1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ым рамкам по охране прав сообществ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(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1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16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ZA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уризм и торговля, связанные с ткачеством такиле (Перу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contenu 4"/>
          <p:cNvSpPr/>
          <p:nvPr/>
        </p:nvSpPr>
        <p:spPr>
          <a:xfrm>
            <a:off x="406440" y="2734200"/>
            <a:ext cx="1676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Процесс ткачества такиле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 Instituto Nacional de Cultura, Peru/Dante Villafuer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Все права защищены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ЕСК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286000" y="2733840"/>
            <a:ext cx="568008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24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мерциализация традиционных знаний о растени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удия Гордони</a:t>
            </a:r>
            <a:r>
              <a:rPr b="1" i="1" lang="en-Z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 средстве по подавлению аппети</a:t>
            </a: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 (ЮАР, Намибия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ce réservé du contenu 4"/>
          <p:cNvSpPr/>
          <p:nvPr/>
        </p:nvSpPr>
        <p:spPr>
          <a:xfrm>
            <a:off x="406440" y="2837160"/>
            <a:ext cx="167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астение худия гордони</a:t>
            </a:r>
            <a:r>
              <a:rPr b="0" i="1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Martin He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Все права защищены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ЮНЕСК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2286000" y="2836800"/>
            <a:ext cx="548316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16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уристический проект Руна Тупари (Эквадор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contenu 4"/>
          <p:cNvSpPr/>
          <p:nvPr/>
        </p:nvSpPr>
        <p:spPr>
          <a:xfrm>
            <a:off x="406440" y="3438000"/>
            <a:ext cx="187956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данном примере НКН сод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йствует занятости, что в свою очередь поддерживает НКН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Все права защищены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ЮНЕСК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2286000" y="2149560"/>
            <a:ext cx="5727600" cy="38052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5"/>
          <p:cNvSpPr/>
          <p:nvPr/>
        </p:nvSpPr>
        <p:spPr>
          <a:xfrm>
            <a:off x="314280" y="2195640"/>
            <a:ext cx="187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Туристы рассматривают объект на одной из троп Руна Тупари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http://www.hosteltrail.com/runatupari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0" y="374760"/>
            <a:ext cx="647712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ZA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гандийская лыковая ткан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contenu 4"/>
          <p:cNvSpPr/>
          <p:nvPr/>
        </p:nvSpPr>
        <p:spPr>
          <a:xfrm>
            <a:off x="406440" y="1916640"/>
            <a:ext cx="1676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Снятие лыка для изготовления лыковой одежд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  <a:ea typeface="Arial"/>
              </a:rPr>
              <a:t>J. K. Walusimb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Все права защищены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ЮНЕСК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281320" y="1905120"/>
            <a:ext cx="60069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Все права защищены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ЮНЕСК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03200" y="2782800"/>
            <a:ext cx="83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говорится в Конвенции и её 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ение НК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Все права защищены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ЮНЕСК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Placeholder 8"/>
          <p:cNvSpPr/>
          <p:nvPr/>
        </p:nvSpPr>
        <p:spPr>
          <a:xfrm>
            <a:off x="2278080" y="1905120"/>
            <a:ext cx="6477120" cy="40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ь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е наследие, постоянно меняющее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оздаваемое сообществами и группами в зависимости от окружающе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ющее у сообществ и групп чувство самобытности и преем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ующееся с устойчивым развитием и взаимным уважением между сообщест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тойчивое развит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Все права защищены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ЮНЕСК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Placeholder 8"/>
          <p:cNvSpPr/>
          <p:nvPr/>
        </p:nvSpPr>
        <p:spPr>
          <a:xfrm>
            <a:off x="2082960" y="1905120"/>
            <a:ext cx="646884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витие, которое удовлетворяет требованиям настоящего времени, не подвергая риску возможность для будущих поколений удовлетворить свои собственные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ундтландская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миссия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, 198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.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 поддающийся сбалансированию процесс по достижению лучшего буд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406440" y="25956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тойчивое развитие и НК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Все права защищены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ЮНЕСК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Placeholder 8"/>
          <p:cNvSpPr/>
          <p:nvPr/>
        </p:nvSpPr>
        <p:spPr>
          <a:xfrm>
            <a:off x="2082960" y="1333440"/>
            <a:ext cx="6476760" cy="40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КН может вносить вклад в устойчивое социальное и экономическое развитие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ойчивое развитие может помочь гарантировать жизнеспособность НКН и соответствующих сообществ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может помочь обеспечить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окультурное благосо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ие взаимоотношения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три сообществ и между н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процветание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ое качество окружающе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06440" y="25956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01360" y="374400"/>
            <a:ext cx="70614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КН поддерживает социальное развити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ект «Грамотность через устную поэзию» (Йемен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Все права защищены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ЮНЕСК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Placeholder 8"/>
          <p:cNvSpPr/>
          <p:nvPr/>
        </p:nvSpPr>
        <p:spPr>
          <a:xfrm>
            <a:off x="2082960" y="3121200"/>
            <a:ext cx="6476760" cy="31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л поэзию при обучении грамотности взрослых в Йеме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02─0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г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сил статус женской устной по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ал обучение грамотности женщ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зал поддержку женщинам в публичной сф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териальные выгоды от практики и передачи НК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Все права защищены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ЮНЕСК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Placeholder 8"/>
          <p:cNvSpPr/>
          <p:nvPr/>
        </p:nvSpPr>
        <p:spPr>
          <a:xfrm>
            <a:off x="2286000" y="1905120"/>
            <a:ext cx="6477120" cy="40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 indent="-179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равоохран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традиционной медицины самой по себе или совместно с биомедицин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ие окружающей сред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традиционных знаний о прир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ие доход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исполнения или передачи НКН либо от продажи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л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0" y="374400"/>
            <a:ext cx="6477120" cy="21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учение дохода поддерживает НКН</a:t>
            </a:r>
            <a:r>
              <a:rPr b="1" lang="en-ZA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ролевски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балет Камбодж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contenu 2"/>
          <p:cNvSpPr/>
          <p:nvPr/>
        </p:nvSpPr>
        <p:spPr>
          <a:xfrm>
            <a:off x="2908440" y="2886120"/>
            <a:ext cx="58546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хмерский королевский двор поддерживал Королевский балет Камбоджа (известный как Кхмерский классический танец) на протяжении более 1000 лет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03200" y="2571840"/>
            <a:ext cx="2184480" cy="3375000"/>
          </a:xfrm>
          <a:prstGeom prst="rect">
            <a:avLst/>
          </a:prstGeom>
          <a:ln w="0">
            <a:noFill/>
          </a:ln>
        </p:spPr>
      </p:pic>
      <p:sp>
        <p:nvSpPr>
          <p:cNvPr id="167" name="Espace réservé du pied de page 3"/>
          <p:cNvSpPr/>
          <p:nvPr/>
        </p:nvSpPr>
        <p:spPr>
          <a:xfrm>
            <a:off x="406440" y="6689880"/>
            <a:ext cx="1676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Все права защищены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ЮНЕСК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8T13:01:32Z</dcterms:created>
  <dc:creator>**** ****</dc:creator>
  <dc:description/>
  <dc:language>en-US</dc:language>
  <cp:lastModifiedBy>UNESCO</cp:lastModifiedBy>
  <dcterms:modified xsi:type="dcterms:W3CDTF">2015-11-05T15:43:17Z</dcterms:modified>
  <cp:revision>108</cp:revision>
  <dc:subject/>
  <dc:title>Présentation PowerPoint</dc:title>
</cp:coreProperties>
</file>