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47372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6504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240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47372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6504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2400" y="417240"/>
            <a:ext cx="648036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7372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6504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240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7372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6504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82400" y="417240"/>
            <a:ext cx="648036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7372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6504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28240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47372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6504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2400" y="417240"/>
            <a:ext cx="648036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2860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>
            <a:off x="2286000" y="2286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11"/>
          <p:cNvSpPr/>
          <p:nvPr/>
        </p:nvSpPr>
        <p:spPr>
          <a:xfrm>
            <a:off x="2286000" y="66294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13"/>
          <p:cNvSpPr/>
          <p:nvPr/>
        </p:nvSpPr>
        <p:spPr>
          <a:xfrm>
            <a:off x="406440" y="2286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8915400" y="0"/>
            <a:ext cx="22860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1"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3" marL="466560" indent="-2156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4" marL="466560" indent="13622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5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6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" name="Straight Connector 17"/>
          <p:cNvSpPr/>
          <p:nvPr/>
        </p:nvSpPr>
        <p:spPr>
          <a:xfrm>
            <a:off x="406440" y="66294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ZoneTexte 13"/>
          <p:cNvSpPr/>
          <p:nvPr/>
        </p:nvSpPr>
        <p:spPr>
          <a:xfrm>
            <a:off x="406440" y="6338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0B4FF-D016-4712-9A49-30AA2BB07FD9}" type="slidenum">
              <a:rPr b="1" lang="fr-FR" sz="1400" spc="-1" strike="noStrike">
                <a:solidFill>
                  <a:srgbClr val="07ded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406080" y="6689520"/>
            <a:ext cx="167652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© All Rights Reserved: UNESCO/ I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4" descr=""/>
          <p:cNvPicPr/>
          <p:nvPr/>
        </p:nvPicPr>
        <p:blipFill>
          <a:blip r:embed="rId2"/>
          <a:stretch/>
        </p:blipFill>
        <p:spPr>
          <a:xfrm>
            <a:off x="668160" y="336600"/>
            <a:ext cx="115272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647712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380880" y="1371600"/>
            <a:ext cx="5715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"/>
          <p:cNvPicPr/>
          <p:nvPr/>
        </p:nvPicPr>
        <p:blipFill>
          <a:blip r:embed="rId2"/>
          <a:stretch/>
        </p:blipFill>
        <p:spPr>
          <a:xfrm>
            <a:off x="403200" y="168120"/>
            <a:ext cx="1593720" cy="1024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1"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3" marL="466560" indent="-2156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4" marL="466560" indent="13622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5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6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5"/>
          <p:cNvSpPr/>
          <p:nvPr/>
        </p:nvSpPr>
        <p:spPr>
          <a:xfrm>
            <a:off x="0" y="0"/>
            <a:ext cx="22860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2286000" y="2286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2286000" y="66294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>
            <a:off x="406440" y="2286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8915400" y="0"/>
            <a:ext cx="22860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7"/>
          <p:cNvSpPr/>
          <p:nvPr/>
        </p:nvSpPr>
        <p:spPr>
          <a:xfrm>
            <a:off x="406440" y="66294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3"/>
          <p:cNvSpPr/>
          <p:nvPr/>
        </p:nvSpPr>
        <p:spPr>
          <a:xfrm>
            <a:off x="406440" y="6338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48562-AC7C-4164-9A54-A03A6845854B}" type="slidenum">
              <a:rPr b="1" lang="fr-FR" sz="1400" spc="-1" strike="noStrike">
                <a:solidFill>
                  <a:srgbClr val="07ded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2"/>
          <a:stretch/>
        </p:blipFill>
        <p:spPr>
          <a:xfrm>
            <a:off x="668160" y="336600"/>
            <a:ext cx="1152720" cy="73980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8"/>
          <p:cNvSpPr/>
          <p:nvPr/>
        </p:nvSpPr>
        <p:spPr>
          <a:xfrm>
            <a:off x="2286000" y="2286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3"/>
          <p:cNvSpPr/>
          <p:nvPr/>
        </p:nvSpPr>
        <p:spPr>
          <a:xfrm>
            <a:off x="406440" y="2286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1"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3" marL="466560" indent="-2156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4" marL="466560" indent="13622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5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6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406080" y="6689520"/>
            <a:ext cx="167652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© All Rights Reserved: UNESCO/ I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692360"/>
            <a:ext cx="5715000" cy="29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4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راث الثقافي غير المادي والتنمية المستدامة</a:t>
            </a:r>
            <a:br>
              <a:rPr sz="4000"/>
            </a:br>
            <a:r>
              <a:rPr b="1" lang="ar-EG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رض </a:t>
            </a:r>
            <a:r>
              <a:rPr b="1" lang="ar-IQ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قديمي، الوحدة </a:t>
            </a:r>
            <a:r>
              <a:rPr b="1" lang="ar-IQ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8</a:t>
            </a:r>
            <a:br>
              <a:rPr sz="4000"/>
            </a:b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520" y="4554000"/>
            <a:ext cx="5715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يونسكو</a:t>
            </a:r>
            <a:endParaRPr b="1" lang="en-US" sz="2400" spc="-1" strike="noStrike">
              <a:solidFill>
                <a:srgbClr val="07dedb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TN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شعبة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التراث الثقافي غير المادي</a:t>
            </a:r>
            <a:endParaRPr b="1" lang="en-US" sz="2400" spc="-1" strike="noStrike">
              <a:solidFill>
                <a:srgbClr val="07dedb"/>
              </a:solidFill>
              <a:latin typeface="Arial"/>
            </a:endParaRPr>
          </a:p>
        </p:txBody>
      </p:sp>
      <p:pic>
        <p:nvPicPr>
          <p:cNvPr id="139" name="Espace réservé pour une image  8" descr="danseuse.jpg"/>
          <p:cNvPicPr/>
          <p:nvPr/>
        </p:nvPicPr>
        <p:blipFill>
          <a:blip r:embed="rId1"/>
          <a:srcRect l="0" t="34" r="0" b="34"/>
          <a:stretch/>
        </p:blipFill>
        <p:spPr>
          <a:xfrm>
            <a:off x="647856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380880" y="5967360"/>
            <a:ext cx="1598760" cy="2761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80880" y="6243480"/>
            <a:ext cx="1598760" cy="277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contenu 4"/>
          <p:cNvSpPr/>
          <p:nvPr/>
        </p:nvSpPr>
        <p:spPr>
          <a:xfrm>
            <a:off x="5159520" y="6000120"/>
            <a:ext cx="28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Left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Daoju Zheng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Right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Difa Gong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31880" y="3770280"/>
            <a:ext cx="3108240" cy="2098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5159520" y="3798720"/>
            <a:ext cx="3127320" cy="20401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1"/>
          <p:cNvSpPr/>
          <p:nvPr/>
        </p:nvSpPr>
        <p:spPr>
          <a:xfrm>
            <a:off x="2286000" y="2303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عمل كبار البنائين على بناء الجسور الخشبية المقوسة في الصين ويتقاضون أجرًا مقابل عمله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0" y="374760"/>
            <a:ext cx="64771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دفع ثمن المنتجات ونقل المعرفة: صنع الجسور الخشبية الصيني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0" y="374760"/>
            <a:ext cx="657216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دفع ثمن المنتجات التي تدعم التراث الثقافي غير المادي: عمل الدانتيل في كرواتي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contenu 4"/>
          <p:cNvSpPr/>
          <p:nvPr/>
        </p:nvSpPr>
        <p:spPr>
          <a:xfrm>
            <a:off x="406440" y="5741640"/>
            <a:ext cx="28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IQ" sz="800" spc="-1" strike="noStrike">
                <a:solidFill>
                  <a:srgbClr val="000000"/>
                </a:solidFill>
                <a:latin typeface="Arial"/>
                <a:cs typeface="Arial"/>
              </a:rPr>
              <a:t>عمل الدانت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Ministry of Culture of Croatia,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contenu 2"/>
          <p:cNvSpPr/>
          <p:nvPr/>
        </p:nvSpPr>
        <p:spPr>
          <a:xfrm>
            <a:off x="5346720" y="2543040"/>
            <a:ext cx="34164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زاولت المرأة الريفية منذ أمد بعيد عمل الدانتيل الكرواتي وبيع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406440" y="2543040"/>
            <a:ext cx="4680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دراسة حالة: موكب الختان (باندونغ، اندونيسيا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666880" y="2428920"/>
            <a:ext cx="5918400" cy="3865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693720" y="2247840"/>
            <a:ext cx="1790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IQ" sz="800" spc="-1" strike="noStrike">
                <a:solidFill>
                  <a:srgbClr val="000000"/>
                </a:solidFill>
                <a:latin typeface="Arial"/>
                <a:cs typeface="Arial"/>
              </a:rPr>
              <a:t>صبي يسير في الموكب على ظهر حصان وهو يرتدي ملابس الاحتفال وقد توج «ملكاً ليوم واحد» قبل يوم من الختان.</a:t>
            </a:r>
            <a:r>
              <a:rPr b="0" i="1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Wim van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Zanten, 1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وكب الختان في باندونغ: الراقصو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contenu 4"/>
          <p:cNvSpPr/>
          <p:nvPr/>
        </p:nvSpPr>
        <p:spPr>
          <a:xfrm>
            <a:off x="406440" y="203940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Y" sz="800" spc="-1" strike="noStrike">
                <a:solidFill>
                  <a:srgbClr val="000000"/>
                </a:solidFill>
                <a:latin typeface="Arial"/>
                <a:cs typeface="Arial"/>
              </a:rPr>
              <a:t>راقصون بأزياء تنكرية في موكب الختان في باندون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Wim van Zanten, 1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7276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وكب الختان في باندونغ: العازفو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contenu 4"/>
          <p:cNvSpPr/>
          <p:nvPr/>
        </p:nvSpPr>
        <p:spPr>
          <a:xfrm>
            <a:off x="406440" y="196848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SY" sz="800" spc="-1" strike="noStrike">
                <a:solidFill>
                  <a:srgbClr val="000000"/>
                </a:solidFill>
                <a:latin typeface="Arial"/>
                <a:cs typeface="Arial"/>
              </a:rPr>
              <a:t>موسيقيون يعزفون على الناي ويقرعون الطبول في موكب ختان باندون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Wim van Zanten, 1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1320" y="1905120"/>
            <a:ext cx="5854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إمكانيات جديدة لإدرار الدخ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Placeholder 8"/>
          <p:cNvSpPr/>
          <p:nvPr/>
        </p:nvSpPr>
        <p:spPr>
          <a:xfrm>
            <a:off x="406440" y="1905120"/>
            <a:ext cx="405144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  <a:cs typeface="Arial"/>
              </a:rPr>
              <a:t>السيا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  <a:cs typeface="Arial"/>
              </a:rPr>
              <a:t>استخدام المعارف التقليدية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لإدارة الموارد البيئية على نحو مستدام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من أجل الرب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استخدام المعارف التقليدية لأغراض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جدي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  <a:ea typeface="Arial"/>
              </a:rPr>
              <a:t> •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دمج العلاجات والأدوية التقليدية في نظام الصحة الوط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Placeholder 8"/>
          <p:cNvSpPr/>
          <p:nvPr/>
        </p:nvSpPr>
        <p:spPr>
          <a:xfrm>
            <a:off x="4552920" y="1905120"/>
            <a:ext cx="420228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بيع المنتجات الحر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تأدية أشكال التعبير عن التراث الثقافي غير المادي مقابل أج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  <a:cs typeface="Arial"/>
              </a:rPr>
              <a:t>المهرجا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  <a:cs typeface="Arial"/>
              </a:rPr>
              <a:t>المسابق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  <a:cs typeface="Arial"/>
              </a:rPr>
              <a:t>الرعاية التج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خاط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Placeholder 8"/>
          <p:cNvSpPr/>
          <p:nvPr/>
        </p:nvSpPr>
        <p:spPr>
          <a:xfrm>
            <a:off x="2278080" y="1905120"/>
            <a:ext cx="647712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52280" indent="-152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"تجميد" التراث الثقافي غير المادي </a:t>
            </a:r>
            <a:r>
              <a:rPr b="0" lang="ar-SY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(ايقاف تطوره) (المادة </a:t>
            </a:r>
            <a:r>
              <a:rPr b="0" lang="ar-SY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,1</a:t>
            </a:r>
            <a:r>
              <a:rPr b="0" lang="ar-SY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؛ والتوجيه التنفيذي </a:t>
            </a:r>
            <a:r>
              <a:rPr b="0" lang="ar-SY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6</a:t>
            </a:r>
            <a:r>
              <a:rPr b="0" lang="ar-SY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إفراط في استغلال الموارد الطبيعية (المادة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.1</a:t>
            </a:r>
            <a:r>
              <a:rPr b="0" lang="fr-FR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؛ 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6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خسارة الوظيفة والمدلول (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7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نتزاع التراث غير المادي من سياقه الأصلي (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02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(أ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وء التصوير (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02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(ب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اختلاس (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7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وزيع الدخل بصورة غير متساوية (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6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595600" y="1471680"/>
            <a:ext cx="3782880" cy="45608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2895480" y="4351320"/>
            <a:ext cx="3170520" cy="14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جنب الاختلاس التج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للتراث الثقافي غير الم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(</a:t>
            </a:r>
            <a:r>
              <a:rPr b="1" lang="ar-IQ" sz="1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010</a:t>
            </a: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، التوجيه التنفيذي </a:t>
            </a:r>
            <a:r>
              <a:rPr b="1" lang="ar-IQ" sz="1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7</a:t>
            </a: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487600" y="1498680"/>
            <a:ext cx="3781440" cy="45622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2779560" y="4363920"/>
            <a:ext cx="3197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IQ" sz="1800" spc="-1" strike="noStrike">
                <a:solidFill>
                  <a:srgbClr val="000000"/>
                </a:solidFill>
                <a:latin typeface="Calibri"/>
                <a:cs typeface="Arial"/>
              </a:rPr>
              <a:t>لا ينبغي للأنشطة التجارية والتجارة أن تهدد التراث الثقافي غير الم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IQ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ar-IQ" sz="1800" spc="-1" strike="noStrike">
                <a:solidFill>
                  <a:srgbClr val="000000"/>
                </a:solidFill>
                <a:latin typeface="Calibri"/>
                <a:cs typeface="Arial"/>
              </a:rPr>
              <a:t>التوجيه التنفيذي </a:t>
            </a:r>
            <a:r>
              <a:rPr b="0" i="1" lang="ar-IQ" sz="1800" spc="-1" strike="noStrike">
                <a:solidFill>
                  <a:srgbClr val="000000"/>
                </a:solidFill>
                <a:latin typeface="Calibri"/>
                <a:ea typeface="Arial"/>
              </a:rPr>
              <a:t>116</a:t>
            </a:r>
            <a:r>
              <a:rPr b="0" i="1" lang="ar-IQ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2779560" y="4363920"/>
            <a:ext cx="3197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Calibri"/>
              </a:rPr>
              <a:t>Commercial activities ... and trade should not ... threaten the viability of the intangible cultural herit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OD 1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571840" y="1523880"/>
            <a:ext cx="3782880" cy="4562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3041640" y="4044600"/>
            <a:ext cx="3024360" cy="219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ضمان ألا يؤدي الاستعمال التجاري</a:t>
            </a:r>
            <a:br>
              <a:rPr sz="1800"/>
            </a:b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لى تشويه معنى وغرض</a:t>
            </a:r>
            <a:br>
              <a:rPr sz="1800"/>
            </a:br>
            <a:r>
              <a:rPr b="1" lang="ar-SY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راث الثقافي</a:t>
            </a:r>
            <a:r>
              <a:rPr b="1" lang="ar-SY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غير المادي</a:t>
            </a:r>
            <a:br>
              <a:rPr sz="1800"/>
            </a:b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النسبة إلى المجتمع المع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(</a:t>
            </a:r>
            <a:r>
              <a:rPr b="1" lang="ar-SY" sz="1200" spc="-1" strike="noStrike">
                <a:solidFill>
                  <a:srgbClr val="000000"/>
                </a:solidFill>
                <a:latin typeface="Traditional Arabic"/>
                <a:ea typeface="Arial"/>
              </a:rPr>
              <a:t>2010</a:t>
            </a: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، التوجيه التنفيذي </a:t>
            </a:r>
            <a:r>
              <a:rPr b="1" lang="ar-IQ" sz="1200" spc="-1" strike="noStrike">
                <a:solidFill>
                  <a:srgbClr val="000000"/>
                </a:solidFill>
                <a:latin typeface="Traditional Arabic"/>
                <a:ea typeface="Arial"/>
              </a:rPr>
              <a:t>117</a:t>
            </a:r>
            <a:r>
              <a:rPr b="1" lang="ar-IQ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0" y="369360"/>
            <a:ext cx="647712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ي هذا العرض 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0" y="1905120"/>
            <a:ext cx="6480360" cy="49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ما الذي تقوله الاتفاقية وتوجيهاتها التنفيذية</a:t>
            </a:r>
            <a:endParaRPr b="1" lang="en-US" sz="2400" spc="-1" strike="noStrike">
              <a:solidFill>
                <a:srgbClr val="07dedb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ستدامة التراث الثقافي غير المادي</a:t>
            </a:r>
            <a:endParaRPr b="1" lang="en-US" sz="2400" spc="-1" strike="noStrike">
              <a:solidFill>
                <a:srgbClr val="07dedb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راث الثقافي غير المادي يدعم التنمية</a:t>
            </a:r>
            <a:endParaRPr b="1" lang="en-US" sz="2400" spc="-1" strike="noStrike">
              <a:solidFill>
                <a:srgbClr val="07dedb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راث الثقافي غير المادي يدعم المجتمعات المحلية أو الجماعات</a:t>
            </a:r>
            <a:endParaRPr b="1" lang="en-US" sz="2400" spc="-1" strike="noStrike">
              <a:solidFill>
                <a:srgbClr val="07dedb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خفيف من المخاطر</a:t>
            </a:r>
            <a:endParaRPr b="1" lang="en-US" sz="2400" spc="-1" strike="noStrike">
              <a:solidFill>
                <a:srgbClr val="07ded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44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التخفيف من حدة المخاطر من خلا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Placeholder 8"/>
          <p:cNvSpPr/>
          <p:nvPr/>
        </p:nvSpPr>
        <p:spPr>
          <a:xfrm>
            <a:off x="2286000" y="1893960"/>
            <a:ext cx="647712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شاركة الجماعة المعنية وإبداء قبولها (المادة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ناء القدرات (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82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آليات استشارية (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8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قييم المخاطر ورصد التهديدات وتقييمها (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80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الإطار القانوني لحماية حقوق المجتمع (التوجيه التنفيذي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04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0" y="374760"/>
            <a:ext cx="647712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دراسة حالة: أنشطة السياحة والتجارة القائمة على فن النسيج في جزيرة تاكيل (بيرو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contenu 4"/>
          <p:cNvSpPr/>
          <p:nvPr/>
        </p:nvSpPr>
        <p:spPr>
          <a:xfrm>
            <a:off x="406440" y="273528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SY" sz="800" spc="-1" strike="noStrike">
                <a:solidFill>
                  <a:srgbClr val="000000"/>
                </a:solidFill>
                <a:latin typeface="Arial"/>
                <a:cs typeface="Arial"/>
              </a:rPr>
              <a:t>حائك من جزيرة تاكيل أثناء العم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Instituto Nacional de Cultura, Peru/Dante Villafue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286000" y="2733840"/>
            <a:ext cx="568008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0" y="374760"/>
            <a:ext cx="647712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دراسة حالة: الاستغلال التجاري للمعارف التقليدية بشأن نبتة هوديا غوردوني الكابحة للشهية (جنوب أفريقيا، ناميبيا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contenu 4"/>
          <p:cNvSpPr/>
          <p:nvPr/>
        </p:nvSpPr>
        <p:spPr>
          <a:xfrm>
            <a:off x="406440" y="226548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IQ" sz="800" spc="-1" strike="noStrike">
                <a:solidFill>
                  <a:srgbClr val="000000"/>
                </a:solidFill>
                <a:latin typeface="Arial"/>
                <a:cs typeface="Arial"/>
              </a:rPr>
              <a:t>نبتة هوديا غوردون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IQ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Martin He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286000" y="2836800"/>
            <a:ext cx="548316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دراسة حالة: مشروع رونا توباري السياحي (إكوادور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contenu 4"/>
          <p:cNvSpPr/>
          <p:nvPr/>
        </p:nvSpPr>
        <p:spPr>
          <a:xfrm>
            <a:off x="276120" y="3268080"/>
            <a:ext cx="16765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Arial"/>
                <a:cs typeface="Arial"/>
              </a:rPr>
              <a:t>في هذا المثال،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يوفر</a:t>
            </a:r>
            <a:r>
              <a:rPr b="0" lang="ar-SY" sz="2000" spc="-1" strike="noStrike">
                <a:solidFill>
                  <a:srgbClr val="000000"/>
                </a:solidFill>
                <a:latin typeface="Arial"/>
                <a:cs typeface="Arial"/>
              </a:rPr>
              <a:t>التراث الثقافي غير المادي فرص عمل تساهم بدورها في استدامة هذا الترا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727600" cy="38052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406440" y="1905120"/>
            <a:ext cx="172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SY" sz="800" spc="-1" strike="noStrike">
                <a:solidFill>
                  <a:srgbClr val="000000"/>
                </a:solidFill>
                <a:latin typeface="Arial"/>
                <a:cs typeface="Arial"/>
              </a:rPr>
              <a:t>سياح يتمتعون بمشاهدة أحد المواقع على طريق رونا توباري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ar-SY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http://www.hosteltrail.com/runatupari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دراسة حالة: قماش اللحاء في أوغند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contenu 4"/>
          <p:cNvSpPr/>
          <p:nvPr/>
        </p:nvSpPr>
        <p:spPr>
          <a:xfrm>
            <a:off x="522360" y="1917720"/>
            <a:ext cx="1676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SY" sz="800" spc="-1" strike="noStrike">
                <a:solidFill>
                  <a:srgbClr val="000000"/>
                </a:solidFill>
                <a:latin typeface="Arial"/>
                <a:cs typeface="Arial"/>
              </a:rPr>
              <a:t>إزالة اللحاء لصنع أقمشة من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J. K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Walusimb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281320" y="1905120"/>
            <a:ext cx="60069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03200" y="2782800"/>
            <a:ext cx="83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ا الذي تقوله الاتفاقية والتوجيهات التنفيذ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c0c0c0"/>
                </a:solidFill>
                <a:latin typeface="Traditional Arabic"/>
                <a:ea typeface="Traditional Arabic"/>
              </a:rPr>
              <a:t>‏</a:t>
            </a: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عريف التراث الثقافي غير الماد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Placeholder 8"/>
          <p:cNvSpPr/>
          <p:nvPr/>
        </p:nvSpPr>
        <p:spPr>
          <a:xfrm>
            <a:off x="2278080" y="1905120"/>
            <a:ext cx="647712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ادة </a:t>
            </a:r>
            <a:r>
              <a:rPr b="1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راث الحي يتغير باستمر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بدعه الجماعات والمجموعات من جديد بصورة مستمرة بما يتفق مع بيئ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نمي الإحساس بالهوية والشعور بالاستمرارية لدى الجماعات والمجموع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تّفق مع مقتضيات التنمية المستدامة والاحترام المتبادل بين الجماعات والمجموع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نمية المستدام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Placeholder 8"/>
          <p:cNvSpPr/>
          <p:nvPr/>
        </p:nvSpPr>
        <p:spPr>
          <a:xfrm>
            <a:off x="2082960" y="1905120"/>
            <a:ext cx="646884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في </a:t>
            </a:r>
            <a:r>
              <a:rPr b="0" i="1" lang="ar-IQ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نمية المستدامة </a:t>
            </a:r>
            <a:r>
              <a:rPr b="0" i="1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احتياجات الحاضر دون المساس بقدرة الأجيال القادمة على الوفاء باحتياجات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(لجنة برنتلاند </a:t>
            </a:r>
            <a:r>
              <a:rPr b="0" i="1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987</a:t>
            </a:r>
            <a:r>
              <a:rPr b="0" i="1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ُعتبر بالتالي </a:t>
            </a:r>
            <a:r>
              <a:rPr b="0" lang="ar-IQ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ملية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وازني</a:t>
            </a:r>
            <a:r>
              <a:rPr b="0" lang="ar-IQ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ة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دقيقة في إطار السعي نحو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ستقبل أفض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06440" y="2595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التنمية المستدامة والتراث الثقافي غير الماد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8"/>
          <p:cNvSpPr/>
          <p:nvPr/>
        </p:nvSpPr>
        <p:spPr>
          <a:xfrm>
            <a:off x="2082960" y="1581120"/>
            <a:ext cx="6476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مكن أن يساهم التراث الثقافي غير المادي في التنمية الاقتصادية والاجتماعية المستدا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يمكن أن تضمن التنمية المستدامة استمرارية التراث الثقافي غير المادي والمجتمعات المحلية والجماعات المع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قد يساعد ذلك على ضما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فاه الاجتماعي والثقا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عزيز العلاقات وتحسينها داخل الجماعات وفيما بي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ازدهار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‎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‏الاقتصادي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نوعية الب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06440" y="2595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2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راث الثقافي غير المادي يدعم التنمية الاجتماعية: مشروع "محو الأمية من خلال الشعر" (اليمن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Placeholder 8"/>
          <p:cNvSpPr/>
          <p:nvPr/>
        </p:nvSpPr>
        <p:spPr>
          <a:xfrm>
            <a:off x="2079720" y="2854440"/>
            <a:ext cx="647676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ستخدام الشعر في صفوف محو الأمية للكبار (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002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-</a:t>
            </a:r>
            <a:r>
              <a:rPr b="0" lang="ar-IQ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003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حسين مكانة الشعر الشفهي النسائ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عزيز التدريب على محو الأمية للنس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مكين النساء  في الحياة العامة وتعزيز مشاركتهن في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374760"/>
            <a:ext cx="64771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نافع المادية المتأتية من ممارسة التراث الثقافي غير المادي</a:t>
            </a:r>
            <a:r>
              <a:rPr b="1" lang="en-US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ونقل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Placeholder 8"/>
          <p:cNvSpPr/>
          <p:nvPr/>
        </p:nvSpPr>
        <p:spPr>
          <a:xfrm>
            <a:off x="2286000" y="1905120"/>
            <a:ext cx="647712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عاية الصحية</a:t>
            </a:r>
            <a:r>
              <a:rPr b="0" lang="fr-FR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(الطب التقليدي المستخدم منفردًا أو الذي يرافق الطب البيولوج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إدارة البيئية</a:t>
            </a:r>
            <a:r>
              <a:rPr b="0" lang="ar-IQ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(استخدام المعارف التقليدية في مجال الطبيعة)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 rtl="1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درار الدخل من</a:t>
            </a:r>
            <a:r>
              <a:rPr b="0" lang="fr-FR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خلال </a:t>
            </a:r>
            <a:r>
              <a:rPr b="0" lang="ar-IQ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مارسة التراث الثقافي غير المادي ونقله أو بيع المنت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0" y="374760"/>
            <a:ext cx="647712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LB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دعم التراث الثقافي غير المادي من خلال أنشطته المدرة للدخل: الباليه الملكية في كمبودي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contenu 2"/>
          <p:cNvSpPr/>
          <p:nvPr/>
        </p:nvSpPr>
        <p:spPr>
          <a:xfrm>
            <a:off x="2698920" y="2238480"/>
            <a:ext cx="585468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دعم البلاط الخميري على مدى ألف عام الرقص الكلاسيكي الخميري المتمثل في الباليه الملكي في كمبوديا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03200" y="2238480"/>
            <a:ext cx="2184480" cy="3375000"/>
          </a:xfrm>
          <a:prstGeom prst="rect">
            <a:avLst/>
          </a:prstGeom>
          <a:ln w="0">
            <a:noFill/>
          </a:ln>
        </p:spPr>
      </p:pic>
      <p:sp>
        <p:nvSpPr>
          <p:cNvPr id="167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All Rights Reserved: UNES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3:01:32Z</dcterms:created>
  <dc:creator>**** ****</dc:creator>
  <dc:description/>
  <dc:language>en-US</dc:language>
  <cp:lastModifiedBy>UNESCO</cp:lastModifiedBy>
  <dcterms:modified xsi:type="dcterms:W3CDTF">2015-11-05T15:35:31Z</dcterms:modified>
  <cp:revision>141</cp:revision>
  <dc:subject/>
  <dc:title>Présentation PowerPoint</dc:title>
</cp:coreProperties>
</file>